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535-A560-41DA-955F-D87FC693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58F6-CB1A-430E-AB95-49071C7D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F7BE-D9AC-4258-8B9C-91311653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405C-46D5-46FE-B2DA-8E39F73C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1887-7018-4E6C-B77F-74DF63BD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B190-1F28-4F29-B56A-5896F0F3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90D7-0A31-49D5-94E8-F7E58855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4F8B-D58C-4592-899D-F06BC0B4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D1B6-0973-4CB2-BE91-06F71CBD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7B2B-F2A6-41B9-A1A9-5191D08E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4AB5-8394-45A4-8C91-0302DEC3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B523-9744-453F-A6EB-B2CF971A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3AC5-5B90-494E-86AE-C68B5EAE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FC54-6613-44FC-8676-9F40C31B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0A06-F282-4752-A103-F7C2B90A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E149-65D2-47ED-9F39-AEE033F6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D211-88C3-4A99-9325-D2BBDE9B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21F-989B-4F7A-A91D-89FDA164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4A5-433E-4892-BDD9-87B60DC3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499C-5748-401C-8BAA-43E49100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F32-1ACE-4EAA-BE15-837BA95E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B5CE-685D-4B78-A81B-DB744F0E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9D91-D8CD-4019-B242-35519D17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CF47-6376-467D-990F-C90D32C9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6D63-3A5A-4617-B182-C377DD36A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986D-0409-4DC1-8822-E70E13FBA13E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growing ol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of older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 and cultural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p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ause of age (‘natur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fe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sd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(blessing / curs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te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NERAL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ong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‘calculation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can be totally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ffer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LANCED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horter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ss 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lculation (but often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ssembl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more simi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NEGATIVE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sh pa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s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calc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ually mo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          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 is: inv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educating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building a ho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with The Netherland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5"/>
          <p:cNvSpPr/>
          <p:nvPr/>
        </p:nvSpPr>
        <p:spPr>
          <a:xfrm flipH="1">
            <a:off x="2743200" y="13716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Succesful age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hana: 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urkey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Care for chronically sick or older peop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s not so much a matter of professional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ut takes place mainly at home, by relatives, unles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opular sector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xample: care for older people in Ghana in its social con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Why important to study life and care of older peopl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mographic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creased depend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igration of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minishing family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tergenerational t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ack of state fac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licy recommend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mily is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-mig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v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pension allow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instit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ed health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no long periods of fragile health and extreme depen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entia r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y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5 “older”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ations on various topics (e.g. meaning of “old”, respect, loneliness, care, building a house, marriage, sex, dea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s, frie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ool ess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hropological persp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 relativ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oti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omanticization of old age in Afr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essons from Afric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ack of anthropological interest in ageing (Why??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wn biography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“old”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Twi      and    Englis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any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I have grown (peo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ye dad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it is old (thing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am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3:12:29Z</dcterms:modified>
  <cp:revision>9</cp:revision>
  <dc:subject/>
  <dc:title>Meanings of growing old Care of elderly people</dc:title>
</cp:coreProperties>
</file>